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82E8-770C-4EFE-80EC-923682EE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D0D-9496-4E23-BDFF-AF239495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71AB-9C43-42CF-8E15-BF85D45D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DD7F-2A43-421D-9A08-4E4692E1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800B-3C59-451A-B1E8-6F8447BE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56CE-2533-41CD-BCA3-365ADF5D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3061-A2CB-4C58-8D10-9569D715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2E46-DCD5-4985-8F4A-E67C6676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09E-8092-41CA-8F52-AB01CEBA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B096-8903-4495-B219-6CBA65F7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058F-3ECF-451A-8B24-7B50C25A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C89-6CE3-4F09-9FEE-978C1050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8D995-3891-4105-A6FD-89BD676BE5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Самостоятельная работ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457200" y="27432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1447920"/>
          <a:ext cx="6096240" cy="4694040"/>
        </p:xfrm>
        <a:graphic>
          <a:graphicData uri="http://schemas.openxmlformats.org/drawingml/2006/table">
            <a:tbl>
              <a:tblPr/>
              <a:tblGrid>
                <a:gridCol w="2438640"/>
                <a:gridCol w="1143000"/>
                <a:gridCol w="1218960"/>
                <a:gridCol w="1295640"/>
              </a:tblGrid>
              <a:tr h="304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ществитель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е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хст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ы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р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зер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иц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вни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та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7c8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Овал 6"/>
          <p:cNvSpPr/>
          <p:nvPr/>
        </p:nvSpPr>
        <p:spPr>
          <a:xfrm>
            <a:off x="7772400" y="5334120"/>
            <a:ext cx="457200" cy="533160"/>
          </a:xfrm>
          <a:prstGeom prst="ellipse">
            <a:avLst/>
          </a:prstGeom>
          <a:solidFill>
            <a:srgbClr val="fcd5b5"/>
          </a:solidFill>
          <a:ln cap="rnd" w="255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5:47:16Z</dcterms:created>
  <dc:creator>Катя</dc:creator>
  <dc:description/>
  <dc:language>en-US</dc:language>
  <cp:lastModifiedBy>Пользователь</cp:lastModifiedBy>
  <dcterms:modified xsi:type="dcterms:W3CDTF">2015-12-24T17:52:00Z</dcterms:modified>
  <cp:revision>9</cp:revision>
  <dc:subject/>
  <dc:title>Название презентации</dc:title>
</cp:coreProperties>
</file>